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D18F-E447-4C1B-8F07-EE300CD76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668E-CF18-4BE9-9D7D-23EF6481D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19FA-0A72-4E0F-8075-98D807E07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DDE1-461C-4AAD-B296-909F2E735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1C5D-EA46-4DEE-9D68-DA62304DF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EE36-2ABC-4B75-B350-1F1B085A2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6489-0D41-48F6-90E7-421B56D90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FCDD-0698-4E0F-B995-09B1C0D6C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F64A-F0EC-42A9-A398-24903C2DD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DE7D-1B7B-47C4-B368-633258CD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0728-F056-4519-A393-7B8C635A6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B632-16A8-4F97-8B2E-F632E0DA5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0E2F3-7EEF-47E1-9388-DB6DE1BDFFA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otlíky versus kotel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898989"/>
                </a:solidFill>
                <a:latin typeface="Calibri"/>
              </a:rPr>
              <a:t>Předmětem  je  investiční porovnání  mezi instalací  plynových kotlů s přípravou teplé vody v jednotlivých bytech bytového domu  a centrálním zdrojem tepla  pro vytápění bytů s přípravou teplé vody v centrálním zdroji tepla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68000" y="549000"/>
            <a:ext cx="83516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Dále je třeba si uvědomit, že kotelnu se zdrojem tepla o výkonu 49,5 kW lze přidáním  dalšího kotle o stejném výkon velmi snadno rozšířit   a zvýšit kapacitu zásobovaných bytů  o  dalších 5-7.   Při tomto počtu se také výrazně začnou  projevovat  zvýšené provozní náklady  na revize komína, kontroly kotlů  a servisní  činnost  2 kotle  versus 12 kotlů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C/ Závěr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95280" y="836280"/>
            <a:ext cx="829152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ři porovnávání pravděpodobně nebyly podchyceny zcela přesně některé  investiční náklady, které při propočtech vycházeli z modelového předpokladu  osazení  kotlů v bytech a v centrálním zdroji tepla. Přesto  jsem přesvědčen, že hranice 3 bytů  je  zlomová pro rozhodování.  K jednotlivým případům je však  třeba přistupovat  individuálně a rozhodnutí je třeba provést pro konkrétní  stavební řešení. Z praxe  bývá hlavním parametrem  počet volných komínových průduchu a možnost odkouření jednotlivých kotlů a také možnost přívodu spalovacího vzduchu pro tyto kotle. Legislativa se v pro tato řešení za poslední roky velmi zpřísnila a stále se zpřísňuje. Komplikovaná řešení pak bývají nákladná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Jedním z aspektu hovořících pro centrální zdroje tepla je také možnost  dálkového monitoringu pomocí jednoduchých serverů,  které jsou schopny monitorovat provozní stavy, poruchové a řídit chod těchto malých kotelen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cs-CZ" sz="2200" spc="-1" strike="noStrike" u="sng">
                <a:solidFill>
                  <a:srgbClr val="000000"/>
                </a:solidFill>
                <a:uFillTx/>
                <a:latin typeface="Calibri"/>
              </a:rPr>
              <a:t>Konečné slovo má přesto vždy inves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815796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 u="sng">
                <a:solidFill>
                  <a:srgbClr val="000000"/>
                </a:solidFill>
                <a:uFillTx/>
                <a:latin typeface="Calibri"/>
              </a:rPr>
              <a:t>A / instalace plynového kotle v jednotlivém bytě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V jednotlivých bytech dle platné legislativy musí být v podstatě instalován uzavřený plynový spotřebič, kondenzační kotel  ( požadavek kondenzačního kotle vyplývá z požadavku splnit třídu exhalací pro Prahu Nox 5)  se zásobníkem na přípravu teplé vody.  Pro uvažované byty o vytápěné ploše cca 80 m2  je potřeba tepla cca 5-6 kW.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Pro jeden byt je tedy  třeba instalovat  jeden kotel o výkonu  cca 1-10 kW ( 2-17 kW ) spolu ze zásobníkem teplé vody.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ybrán byl kotel s výkonovým rozsahem 1-10 kW a zásobníkem o velikosti 120 l – typově pro bytovou jednotku.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000000"/>
                </a:solidFill>
                <a:uFillTx/>
                <a:latin typeface="Calibri"/>
              </a:rPr>
              <a:t>Cena instalace tohoto zařízení 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Kotel + zásobník               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75000,-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Regulace                             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  5000,-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Odkouření    typické          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10000,-    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Přípojka plynu pro byt          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  8000,-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Montáž kotle + okouření    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23000,-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Instalace kotle v jednom bytě                          </a:t>
            </a:r>
            <a:r>
              <a:rPr b="0" lang="cs-CZ" sz="2500" spc="-1" strike="noStrike" u="sng">
                <a:solidFill>
                  <a:srgbClr val="000000"/>
                </a:solidFill>
                <a:uFillTx/>
                <a:latin typeface="Calibri"/>
              </a:rPr>
              <a:t>121 000,-   Kč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Provozní náklady roční    - základní      servis            1500,-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Revize komína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     1000,-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Provozní roční  náklady na  jeden byt                  </a:t>
            </a:r>
            <a:r>
              <a:rPr b="0" lang="cs-CZ" sz="2500" spc="-1" strike="noStrike" u="sng">
                <a:solidFill>
                  <a:srgbClr val="000000"/>
                </a:solidFill>
                <a:uFillTx/>
                <a:latin typeface="Calibri"/>
              </a:rPr>
              <a:t>2500,-  Kč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Instalační   předpokla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1/ volné komínové průduchy pro jednotlivé kotle v jednotlivých bytech  ( Možností je i instalace komína LAS s možností  pro napojení více kotlů do jednoho komína.  Z praxe je  tato možnost spíše ojedinělá, technicky komplikovaná a bývá krajní volbou pro možnost odkouření ).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2/  kotel a zásobník  je nutno v bytu umístit - prostor cca  60x60x200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3/  kotel dle platné legislativy vyžaduje přísné podmínky pro přívod spalovacího vzduchu.  Např. v bytech s plastovými okny je instalace kotle bez přívodu vzduchu z venku nebo ze světlíku, větrací šachty  prakticky nerealizovatelná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14716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B/ Centrálního zdroje tepla   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Instalace  centrálního zdroje vychází z předpokladu, že námi navrhovaný zdroj bude ve smyslu platných předpisů plynové odběrní zařízení  tj. maximální výkon 49,5 kW respektive pro  větší zdroje tepla 2*49,5 kW ( takto navržený zdroj je ve smyslu platných předpisů – plynové odběrní zařízení  jako jeden kotel v bytě či rodinném domě. 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Za tohoto předpokladu a obvyklé velikosti bytů jsme schopni výkonem  zdrojem tepla o výkonu 49,5 kW připravovat  topnou vodu pro vytápění cca 5 bytů  včetně teplé vody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volený zdroj je o výkonu 49,5 kW s centrální přípravou teplé vody  a s měřením spotřeby tepla na vstupu do jednotlivých bytů, s měřením tepla  na přípravu teplé vody a měřením v jednotlivých bytech    </a:t>
            </a: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000000"/>
                </a:solidFill>
                <a:uFillTx/>
                <a:latin typeface="Calibri"/>
              </a:rPr>
              <a:t>Cena instalace tohoto zařízení 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Kotel + zásobník               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          100000,-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Armatury, čerpadla ,…        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45000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Regulace                             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15000,-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Odkouření    typické            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15000,-    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Přípojka plynu pro kotelnu   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10000,-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Měřiče tepla  v kotelně         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20000,-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Montáž kotle + okouření       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30000,-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Regulace                              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15000,-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000000"/>
                </a:solidFill>
                <a:uFillTx/>
                <a:latin typeface="Calibri"/>
              </a:rPr>
              <a:t>Cena zdroje tepla                 </a:t>
            </a:r>
            <a:r>
              <a:rPr b="0" lang="cs-CZ" sz="2500" spc="-1" strike="noStrike" u="sng">
                <a:solidFill>
                  <a:srgbClr val="000000"/>
                </a:solidFill>
                <a:uFillTx/>
                <a:latin typeface="Calibri"/>
              </a:rPr>
              <a:t>	</a:t>
            </a:r>
            <a:r>
              <a:rPr b="0" lang="cs-CZ" sz="2500" spc="-1" strike="noStrike" u="sng">
                <a:solidFill>
                  <a:srgbClr val="000000"/>
                </a:solidFill>
                <a:uFillTx/>
                <a:latin typeface="Calibri"/>
              </a:rPr>
              <a:t>           250000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,-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Cena rozvodů tepla na paty jednotlivých bytů     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30000,-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Měření tepla  pro   5 bytů                                     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50000,-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Cena rozvodů teplé vody   do 5 bytu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45000,-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Cena rozvodů tepla            </a:t>
            </a:r>
            <a:r>
              <a:rPr b="0" lang="cs-CZ" sz="2200" spc="-1" strike="noStrike" u="sng">
                <a:solidFill>
                  <a:srgbClr val="000000"/>
                </a:solidFill>
                <a:uFillTx/>
                <a:latin typeface="Calibri"/>
              </a:rPr>
              <a:t>125000,-   na jeden byt        25000,-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rovozní náklady roční    - základní      servis   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1500,-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Revize komína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1000,-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rovozní náklady na  kotelnu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cs-CZ" sz="2200" spc="-1" strike="noStrike" u="sng">
                <a:solidFill>
                  <a:srgbClr val="000000"/>
                </a:solidFill>
                <a:uFillTx/>
                <a:latin typeface="Calibri"/>
              </a:rPr>
              <a:t>       2500,-  Kč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Porovnání     centrálního zdroje tepla  versus lokální přípravy v jednotlivých bytech </a:t>
            </a: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0000"/>
                </a:solidFill>
                <a:uFillTx/>
                <a:latin typeface="Calibri"/>
              </a:rPr>
              <a:t>Kotelna +rozvody           1 byt               2 byty              3 byty              4 byty                 5 bytů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275 000                        121000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300 000                                                 242 000 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325 000   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              363 0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350 000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484 0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375 000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                              605 0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 uvedené ho vyplývá, že uvažovat o centrálním zdroji tepla je vhodné již  při  instalaci  zdrojů tepla  ve třech byte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395280" y="260280"/>
            <a:ext cx="829152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U centrální kotelny  je třeba se také zmínit o nutnosti tuto kotelnu  navrhnou do odpovídajících prostor a s tím mohou být spojené stavební náklady, které mohou  toto rozhodnutí např.  posunout k hranici 4  vytápěných bytů.    Pro centrální kotelnu  s jedním zdrojem tepla  je také velká výhoda jednoho odkouření o průměru 110 mm – možnost vložkovat jeden stávající komínový průduch 150/150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U centrální kotelny  je třeba se také zmínit o nutnosti tuto kotelnu  navrhnou do odpovídajících prostor a s tím mohou být spojené stavební náklady, které mohou  toto rozhodnutí např.  posunout k hranici 4  vytápěných bytů.    Pro centrální kotelnu  s jedním zdrojem tepla  je také velká výhoda jednoho odkouření o průměru 110 mm – možnost vložkovat jeden stávající komínový průduch 150/150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05T09:20:31Z</dcterms:created>
  <dc:creator>Petr</dc:creator>
  <dc:description/>
  <dc:language>en-US</dc:language>
  <cp:lastModifiedBy>Petr</cp:lastModifiedBy>
  <dcterms:modified xsi:type="dcterms:W3CDTF">2016-10-10T11:26:58Z</dcterms:modified>
  <cp:revision>9</cp:revision>
  <dc:subject/>
  <dc:title>Kotlíky versus kotelna</dc:title>
</cp:coreProperties>
</file>